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43A-349E-4EBB-9EA4-926520A0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D76-6E7C-4C70-87DA-0F7AAB10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B74-2F6C-4D1F-B7FF-6835947F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D8F-4459-4275-A207-E4015228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80FA-F897-45A6-B67F-1421C47F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6D53-136C-4B0A-AE2E-A802ED55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1BCC-149F-4433-A195-964416D2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DDB9-9BB1-4B04-9795-95BA8DA3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EF25-CAEE-4CB5-B5DD-EBE39051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69A9-3C1D-4FCD-94C0-277E612E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62A9-391D-4426-A782-4F9449D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DA42-7C2A-4582-BC60-63990242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9ECE-748A-47B8-AF25-3080BF63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4FA2-15C7-4558-B94C-88C3AA0E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C771-F1D0-41FB-8F63-E3A5FF7F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FAB7-0239-4CD7-9326-46136D26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0747-8D5C-415E-A588-35B1511C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70A-4AF7-4B29-9118-951472FD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F70-9C9E-4C1B-BD2C-C646F5E1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F5C-B4F2-4ACE-9DC7-99594276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B2C-6A43-482F-82AD-F33C9F95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162-F3CF-464D-8120-51F2E3B0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FE6-2967-40BF-9A2A-8ABD5462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BC0-B618-48AB-ABD9-71F1313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029-02A0-45F8-B880-81F0812E3F3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F3D-87C2-4B70-8523-93E6782D667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Datová fúze satelitní navigace      a kompas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35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vo Maceč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orovnání systému GPS a DG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715000" y="2643120"/>
            <a:ext cx="3071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řadnice vztaženy k referenční stani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měrná absolutní chyba bod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GPS = 1,6m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PS = 6,2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Graf 8" descr=""/>
          <p:cNvPicPr/>
          <p:nvPr/>
        </p:nvPicPr>
        <p:blipFill>
          <a:blip r:embed="rId1"/>
          <a:stretch/>
        </p:blipFill>
        <p:spPr>
          <a:xfrm>
            <a:off x="974880" y="2378160"/>
            <a:ext cx="48402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mulace ztráty signálu z G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714640" y="2642760"/>
            <a:ext cx="30718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řadnice vztaženy k referenční stani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 bez příjmu signálu 35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olutní chyba       na konci úseku 1,9m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Graf 3" descr=""/>
          <p:cNvPicPr/>
          <p:nvPr/>
        </p:nvPicPr>
        <p:blipFill>
          <a:blip r:embed="rId1"/>
          <a:stretch/>
        </p:blipFill>
        <p:spPr>
          <a:xfrm>
            <a:off x="706320" y="2352600"/>
            <a:ext cx="53704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Závě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plikace a ověření metody DGPS určené pro zpřesnění výsledků absolutní polohy objek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iminace ztráty informace o poloze při krátkodobé ztrátě signálu na základě znalosti vnitřních stavů objek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prezentace robotu na soutěži Robotour 200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Zadá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známení se satelitním navigačním systémem Navstar GPS a možnostmi měření orientace pomocí geomagnetického pole Zem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alizace datové fúze z těchto snímač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blematik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GPS pro absolutní určení polohy objek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řesnění systému G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a diferenciální G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RS = referenční stanice, P = pozorovate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a užití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ktronického kompa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5619600" y="4336920"/>
            <a:ext cx="3453120" cy="2092320"/>
            <a:chOff x="5619600" y="4336920"/>
            <a:chExt cx="3453120" cy="2092320"/>
          </a:xfrm>
        </p:grpSpPr>
        <p:sp>
          <p:nvSpPr>
            <p:cNvPr id="102" name="Line 5"/>
            <p:cNvSpPr/>
            <p:nvPr/>
          </p:nvSpPr>
          <p:spPr>
            <a:xfrm>
              <a:off x="7833240" y="4577400"/>
              <a:ext cx="442440" cy="141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03" name="Group 6"/>
            <p:cNvGrpSpPr/>
            <p:nvPr/>
          </p:nvGrpSpPr>
          <p:grpSpPr>
            <a:xfrm>
              <a:off x="6445800" y="4625280"/>
              <a:ext cx="796320" cy="191520"/>
              <a:chOff x="6445800" y="4625280"/>
              <a:chExt cx="796320" cy="191520"/>
            </a:xfrm>
          </p:grpSpPr>
          <p:sp>
            <p:nvSpPr>
              <p:cNvPr id="104" name="Line 7"/>
              <p:cNvSpPr/>
              <p:nvPr/>
            </p:nvSpPr>
            <p:spPr>
              <a:xfrm>
                <a:off x="6608160" y="4721760"/>
                <a:ext cx="56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" name="Rectangle 8"/>
              <p:cNvSpPr/>
              <p:nvPr/>
            </p:nvSpPr>
            <p:spPr>
              <a:xfrm>
                <a:off x="7036560" y="4631400"/>
                <a:ext cx="20556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6445800" y="4631400"/>
                <a:ext cx="20556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Oval 10"/>
              <p:cNvSpPr/>
              <p:nvPr/>
            </p:nvSpPr>
            <p:spPr>
              <a:xfrm>
                <a:off x="6726240" y="4625280"/>
                <a:ext cx="235080" cy="1915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1"/>
            <p:cNvGrpSpPr/>
            <p:nvPr/>
          </p:nvGrpSpPr>
          <p:grpSpPr>
            <a:xfrm>
              <a:off x="7154280" y="4336920"/>
              <a:ext cx="796320" cy="191520"/>
              <a:chOff x="7154280" y="4336920"/>
              <a:chExt cx="796320" cy="191520"/>
            </a:xfrm>
          </p:grpSpPr>
          <p:sp>
            <p:nvSpPr>
              <p:cNvPr id="109" name="Line 12"/>
              <p:cNvSpPr/>
              <p:nvPr/>
            </p:nvSpPr>
            <p:spPr>
              <a:xfrm>
                <a:off x="7316640" y="4433400"/>
                <a:ext cx="56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0" name="Rectangle 13"/>
              <p:cNvSpPr/>
              <p:nvPr/>
            </p:nvSpPr>
            <p:spPr>
              <a:xfrm>
                <a:off x="7745040" y="4343040"/>
                <a:ext cx="20556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1" name="Rectangle 14"/>
              <p:cNvSpPr/>
              <p:nvPr/>
            </p:nvSpPr>
            <p:spPr>
              <a:xfrm>
                <a:off x="7154280" y="4343040"/>
                <a:ext cx="20556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2" name="Oval 15"/>
              <p:cNvSpPr/>
              <p:nvPr/>
            </p:nvSpPr>
            <p:spPr>
              <a:xfrm>
                <a:off x="7434720" y="4336920"/>
                <a:ext cx="235080" cy="1915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6"/>
            <p:cNvGrpSpPr/>
            <p:nvPr/>
          </p:nvGrpSpPr>
          <p:grpSpPr>
            <a:xfrm>
              <a:off x="7626600" y="4962240"/>
              <a:ext cx="796320" cy="191520"/>
              <a:chOff x="7626600" y="4962240"/>
              <a:chExt cx="796320" cy="191520"/>
            </a:xfrm>
          </p:grpSpPr>
          <p:sp>
            <p:nvSpPr>
              <p:cNvPr id="114" name="Line 17"/>
              <p:cNvSpPr/>
              <p:nvPr/>
            </p:nvSpPr>
            <p:spPr>
              <a:xfrm>
                <a:off x="7788960" y="5058720"/>
                <a:ext cx="56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5" name="Rectangle 18"/>
              <p:cNvSpPr/>
              <p:nvPr/>
            </p:nvSpPr>
            <p:spPr>
              <a:xfrm>
                <a:off x="8217360" y="4968360"/>
                <a:ext cx="20556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Rectangle 19"/>
              <p:cNvSpPr/>
              <p:nvPr/>
            </p:nvSpPr>
            <p:spPr>
              <a:xfrm>
                <a:off x="7626600" y="4968360"/>
                <a:ext cx="20556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Oval 20"/>
              <p:cNvSpPr/>
              <p:nvPr/>
            </p:nvSpPr>
            <p:spPr>
              <a:xfrm>
                <a:off x="7907040" y="4962240"/>
                <a:ext cx="235080" cy="19152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1"/>
            <p:cNvGrpSpPr/>
            <p:nvPr/>
          </p:nvGrpSpPr>
          <p:grpSpPr>
            <a:xfrm>
              <a:off x="5619600" y="5803920"/>
              <a:ext cx="1091880" cy="577080"/>
              <a:chOff x="5619600" y="5803920"/>
              <a:chExt cx="1091880" cy="577080"/>
            </a:xfrm>
          </p:grpSpPr>
          <p:sp>
            <p:nvSpPr>
              <p:cNvPr id="119" name="Text Box 22"/>
              <p:cNvSpPr/>
              <p:nvPr/>
            </p:nvSpPr>
            <p:spPr>
              <a:xfrm>
                <a:off x="5619600" y="5972040"/>
                <a:ext cx="745560" cy="28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Arial"/>
                  </a:rPr>
                  <a:t>RS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AutoShape 23"/>
              <p:cNvSpPr/>
              <p:nvPr/>
            </p:nvSpPr>
            <p:spPr>
              <a:xfrm>
                <a:off x="6563880" y="5803920"/>
                <a:ext cx="147600" cy="456840"/>
              </a:xfrm>
              <a:prstGeom prst="flowChartExtra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Line 24"/>
              <p:cNvSpPr/>
              <p:nvPr/>
            </p:nvSpPr>
            <p:spPr>
              <a:xfrm>
                <a:off x="5988600" y="6381000"/>
                <a:ext cx="64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Line 25"/>
              <p:cNvSpPr/>
              <p:nvPr/>
            </p:nvSpPr>
            <p:spPr>
              <a:xfrm>
                <a:off x="5988600" y="6261480"/>
                <a:ext cx="0" cy="11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3" name="Line 26"/>
              <p:cNvSpPr/>
              <p:nvPr/>
            </p:nvSpPr>
            <p:spPr>
              <a:xfrm>
                <a:off x="6638040" y="6261480"/>
                <a:ext cx="0" cy="11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4" name="Line 27"/>
              <p:cNvSpPr/>
              <p:nvPr/>
            </p:nvSpPr>
            <p:spPr>
              <a:xfrm>
                <a:off x="6298200" y="6381000"/>
                <a:ext cx="1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8"/>
            <p:cNvGrpSpPr/>
            <p:nvPr/>
          </p:nvGrpSpPr>
          <p:grpSpPr>
            <a:xfrm>
              <a:off x="8098560" y="6080760"/>
              <a:ext cx="745560" cy="348480"/>
              <a:chOff x="8098560" y="6080760"/>
              <a:chExt cx="745560" cy="348480"/>
            </a:xfrm>
          </p:grpSpPr>
          <p:sp>
            <p:nvSpPr>
              <p:cNvPr id="126" name="Text Box 29"/>
              <p:cNvSpPr/>
              <p:nvPr/>
            </p:nvSpPr>
            <p:spPr>
              <a:xfrm>
                <a:off x="8098560" y="6080760"/>
                <a:ext cx="745560" cy="2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Oval 30"/>
              <p:cNvSpPr/>
              <p:nvPr/>
            </p:nvSpPr>
            <p:spPr>
              <a:xfrm>
                <a:off x="8586360" y="6309000"/>
                <a:ext cx="147600" cy="1202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Oval 31"/>
              <p:cNvSpPr/>
              <p:nvPr/>
            </p:nvSpPr>
            <p:spPr>
              <a:xfrm>
                <a:off x="8216280" y="6303600"/>
                <a:ext cx="147600" cy="1202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9" name="Line 32"/>
            <p:cNvSpPr/>
            <p:nvPr/>
          </p:nvSpPr>
          <p:spPr>
            <a:xfrm flipH="1">
              <a:off x="5855040" y="4842000"/>
              <a:ext cx="944280" cy="1033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Line 33"/>
            <p:cNvSpPr/>
            <p:nvPr/>
          </p:nvSpPr>
          <p:spPr>
            <a:xfrm>
              <a:off x="6800040" y="4842000"/>
              <a:ext cx="1269000" cy="1154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Line 34"/>
            <p:cNvSpPr/>
            <p:nvPr/>
          </p:nvSpPr>
          <p:spPr>
            <a:xfrm flipH="1">
              <a:off x="6740640" y="5202720"/>
              <a:ext cx="855720" cy="62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Line 35"/>
            <p:cNvSpPr/>
            <p:nvPr/>
          </p:nvSpPr>
          <p:spPr>
            <a:xfrm>
              <a:off x="8305560" y="5202720"/>
              <a:ext cx="147600" cy="79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Line 36"/>
            <p:cNvSpPr/>
            <p:nvPr/>
          </p:nvSpPr>
          <p:spPr>
            <a:xfrm flipH="1">
              <a:off x="6297840" y="4601160"/>
              <a:ext cx="1239480" cy="1274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Text Box 37"/>
            <p:cNvSpPr/>
            <p:nvPr/>
          </p:nvSpPr>
          <p:spPr>
            <a:xfrm>
              <a:off x="8327160" y="5347080"/>
              <a:ext cx="7455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GPS signál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Line 38"/>
            <p:cNvSpPr/>
            <p:nvPr/>
          </p:nvSpPr>
          <p:spPr>
            <a:xfrm>
              <a:off x="6829560" y="6237000"/>
              <a:ext cx="109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39"/>
            <p:cNvSpPr/>
            <p:nvPr/>
          </p:nvSpPr>
          <p:spPr>
            <a:xfrm>
              <a:off x="7116840" y="6237000"/>
              <a:ext cx="7455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korekc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ardwarové vybavení navig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PS přijímač DG14 pro satelitní naviga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akovací frekvence 1,2,5,10 a 20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ávy dle protokolu NM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unikační rozhraní 2xRS2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ájení 5V D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ktronický kompas CMPS0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řící rozsah 0° - 359,9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snost ± 3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up PWM, I2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ájení 5V D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lizace referenční stan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Obrázek 5" descr="BaseStation_b.jpg"/>
          <p:cNvPicPr/>
          <p:nvPr/>
        </p:nvPicPr>
        <p:blipFill>
          <a:blip r:embed="rId1"/>
          <a:stretch/>
        </p:blipFill>
        <p:spPr>
          <a:xfrm>
            <a:off x="4114800" y="3714840"/>
            <a:ext cx="5029200" cy="31431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7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PS přijímač s externí anténou na stativ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drátový přenos korek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ílač ELPRO 805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volné pásmo 868M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ah 5km (přímá viditelnos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ájení 12V D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ájení stan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terie 12V/26A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bili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vládání referenční stan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Obrázek 5" descr="ProgramBase.jpg"/>
          <p:cNvPicPr/>
          <p:nvPr/>
        </p:nvPicPr>
        <p:blipFill>
          <a:blip r:embed="rId1"/>
          <a:stretch/>
        </p:blipFill>
        <p:spPr>
          <a:xfrm>
            <a:off x="760320" y="2467080"/>
            <a:ext cx="82868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lizace subsystému robot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Obrázek 4" descr="RemoteStation_b.jpg"/>
          <p:cNvPicPr/>
          <p:nvPr/>
        </p:nvPicPr>
        <p:blipFill>
          <a:blip r:embed="rId1"/>
          <a:stretch/>
        </p:blipFill>
        <p:spPr>
          <a:xfrm>
            <a:off x="4786200" y="2749680"/>
            <a:ext cx="4071960" cy="3956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7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PS přijímač s externí anténou na “stožáru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drátový přenos korek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jímač ELPRO 805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ájení robo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x baterie 12V/26A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bilita, vysoká výdr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gramové zpracování dat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38080" y="2362320"/>
            <a:ext cx="7837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ata dekódováním NMEA zprá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ta od uživatele přes externí soub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TM Souřadnice referenční stan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pa prostředí dle formátu RND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vence sektorů požadované dráh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tomatická volba režimu určení polo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ferenciální G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asické GPS (nedostupnost korekc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ad Reckoning (nedostupnost GPS signálu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gramové zpracování dat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2362320"/>
            <a:ext cx="78375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ad Recko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aktuálních souřadnic na základě rychlosti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orientaci robotu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ulá poloha objek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ské inform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uální čas, Režim určování poloh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řadnice objektu (transformace do UTM souřadni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pohybu, Azim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chylky souřadnic a vzdálenost vzhledem k cíl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žadavek směru zatočení (-90°;90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275520" y="3286080"/>
                <a:ext cx="25113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5:23:40Z</dcterms:created>
  <dc:creator>MacIvo</dc:creator>
  <dc:description/>
  <dc:language>en-US</dc:language>
  <cp:lastModifiedBy>Ivo</cp:lastModifiedBy>
  <dcterms:modified xsi:type="dcterms:W3CDTF">2010-06-06T19:42:36Z</dcterms:modified>
  <cp:revision>120</cp:revision>
  <dc:subject/>
  <dc:title>Semestrální projekt</dc:title>
</cp:coreProperties>
</file>